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26EE-E4FB-410E-B82E-CF4094F1C2D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1CB6-7682-4E56-BE91-C9D07256A6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1133B-6CD5-4F44-80A6-D9075195B1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AFC2-408B-4099-BF92-0FA072F4FE3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36B6-485F-4847-9F2A-68DB72E95B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DA50-A119-4612-BBF5-D3074B116E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0F74-4ACF-40DE-9900-BE41E3A962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C628-C282-43EA-A613-9733ED0E03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40AF-1D3D-4BDB-9F60-2985E3EC8F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D7B0-5E2A-4C51-A536-1A26277C57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AD7F-EE5D-4A7B-B1FB-F84864B9BD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0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9D73-67FA-49CF-82F7-DF8F4078F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A303-BBA5-41B0-9D2F-4FFD51CD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1D79F-FF8D-4F65-B262-8A682F58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528D61-B659-415F-81A3-2D912CCB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E4E3B-67CF-4A35-BBCF-84840186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B123E8-307A-485F-9192-3014232C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F120C-FC86-4791-A577-E31DD524C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443E12-5C91-46D6-BD81-52B45570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20E2A-EC2D-4FBE-885A-C1ED6523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93BB4-3644-4A1C-875E-3C38FCE3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4536B-4456-4C05-8502-C7862261D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29002E-A51D-4AC3-BE6B-B7D1B6ACE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408E-D29A-45F2-A6C7-21769FB6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8572A-18B5-4B5A-8A65-704E9250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BDB5B6-BD60-4753-8373-6A114D08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576A17-74C6-4878-9F6C-36CCB38C9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B667A9-8769-4DF6-850B-0C6AC114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5622DA-B779-4A2A-B2BB-C94AB109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CB5E49-08F4-4834-AD24-AFF985EF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D2480B-F037-4430-9133-44E0EC4B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D12BFA-9C62-4B30-8477-9C198831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5FC917-5AC4-4B72-9120-2DBDF1A8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BE38C2-3CBD-4F2A-A60A-679A4A19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76E3-43AF-426F-8606-30CFBB3DD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7D56E-6F89-4AA7-B1AF-495D8EEF9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3EEAB-48DB-4DC8-9629-D83A4C87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ADF192-1CA5-40E6-9DBE-D758DE6B0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CD98F-57ED-4025-A51F-E3A8EA44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3A319-9A8C-4C5C-A535-86151BEF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65F3DF-04CB-48E6-967A-54638732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91FA9-66D1-47C2-BA02-62B635C0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EDB12-0704-46C6-9EEB-5BC8E5F8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056616-28F4-433B-8A3E-75A7CAAD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BE1B1-7F75-4983-8B64-024B32CF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6C57-407D-464B-BC20-424FC3C15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1BDBE3-33A4-4ED7-ADAB-EC462B9E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37A2B-3F57-40C2-8543-3C01F811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310EC6-5CD5-4C0A-A50D-FF15F1BA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A7DCB1-1D0E-4B42-9269-A212D128E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D58FDC-FF5E-4E9F-BF3A-9DD14500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C6493-2F8E-46E0-94F8-FD06D3EBF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DE33F0-DB11-437B-A99A-69BB1F580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3C289-57A8-4A59-9AA0-6545EB08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5FCDEB-62A2-4B53-B4E7-CD153D1F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C0BC2-44FE-46EE-8838-463D9A55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A1FC-F75F-465D-BA4D-0C18C288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7EF1C7-CCFA-47AE-A215-043CA20E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451F40-2D1C-4035-A6DC-91CEF0CF0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ABC3AD-9FC6-4DAF-ABBA-1D4D3794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7CB3B6-7330-49BA-AD76-055F2D1D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A90EB1-2F5D-4C18-9B23-84B0384D6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0B4B35-09EA-4AE0-BF6C-B8A1DFD5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BBBF39-A1CB-4FF5-A4A7-BF60D35D4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242BFD-2C84-4A7B-A224-61E436880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F0BAB1-4880-408F-8DD6-667DE155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F03074-B344-43BF-BDF3-ABD94EE6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D3E3-B0E5-41E6-AB9B-CF87D01F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6EBB42-B3D4-4893-A893-B3798D6C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FF3B5A-243F-4091-A45E-5C9A57F2A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9F716A-E73D-4C88-9425-10992627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7F079D-1301-4E3F-86B2-D8BB1A0B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1FC4EB-371B-49D9-9700-443EB675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33D529-6F8C-40FC-9407-FC135515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B503BF-1048-4F23-B932-CE26AF18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14CC-CB6E-4B26-A046-5E21F56B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26D5A-FCD4-44C9-A94B-AAA3E949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D13C1-1A6B-4525-9225-CE16465C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DE45-E111-44AC-B7F7-9402E157D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20C6-9628-4D6B-A0BF-DA4BE1E1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8D645-71E3-48BD-B1C7-123311FF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75FA-6FA3-49E1-A082-982C1BC8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D5398-B367-47E4-AEAC-9E85F186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14F6B-D2A6-49FC-9EED-F1CD867F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4566-4337-4E6B-80CE-20BF6F1B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7D415-40EA-4563-8951-AF41CB37F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53A16-C094-447E-8734-E143DB90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CE1ED-C81B-45E9-AEBD-C06DCF6D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A7DFC-C771-4172-BBB8-5434760D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7D467-A4EB-4741-9334-2D417727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771D-9682-4963-880B-3FA044C17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FBAEE-0665-4C91-8D3B-1FB7999DD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86250-39E2-4667-AFFD-4867A749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4ABE2-7793-428F-846D-F77BA816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56593-7A70-4DED-8335-CA21150D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93598-BFA2-42B5-9961-5E97E361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22F2B-76F0-4695-A2E0-67350E46B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3B808-D69F-4E54-B956-68ED8DF3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BA9C6-474E-45F8-8FE8-E6B1D2B8E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846E8-F507-448A-815F-FD1FB38AC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B1C09-BB1A-4EFA-85BA-CB913A39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EABE-9CF1-47E6-8680-4A6FD9E8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B70D3-60A9-4E14-8158-BBF03E6F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50517-233D-442F-A2BD-6FB5DE90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69A8C-6C27-465B-ADA7-D1B596351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2F9C6-C419-4113-9A3A-BD3C37ED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F55F4-A915-4C81-A206-9227218F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B4598-7EBD-45D9-901D-6846F20F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3FB2A-3A34-4264-BEAE-1E3C92E2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BE20D-8208-4E83-B799-C62A4773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D6BAD-BB0A-4BAE-9009-0554B1785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54DE0-7DE5-4D02-AB87-A69DCB5BF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617A-AD4F-49DF-92AE-CB2F5A91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D2C1A-E3F9-4012-A9B7-B6885905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89762-807F-4DEC-BB99-A80948E9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F39A4-BAF8-416A-8AD7-849ECA15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82203-2B75-4E9D-80B6-DA79D30C8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14903-B289-4C4B-8627-FB8A72EB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4BC68-ABEF-4F88-AFC4-C191F32E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04CDF-8FF7-4033-9F6E-328B90AF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E128E9-2CA7-4B90-A1DA-EC9CA966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0EA69-8333-4D94-9AAB-31A2A9BB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5CDE1-C974-4903-BE3B-8DED79B26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FF4-5806-4473-9E37-FA8F24BE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56E2C-40DA-47CA-A16F-D0181BFD3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946BA-0784-4103-952D-BF2F5D405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E8705-3ED8-4930-B654-B1512EB0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FD943-A135-48AB-B2E6-60F57E5E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01F2F-D451-4292-9848-88AC55E1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DBF524-24B2-494A-922D-84CB7DF1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3F68B-03D5-4F4A-A874-49D79961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99AF8-0808-4455-9DD3-3B2A9878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3BFC2-BE16-4D30-84EF-A14CC450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50CEF-D694-4CE2-8160-730793FD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3E54-2742-4703-8947-D9CAD352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FBC03-FA5D-4EFB-85F2-75113DA6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E73D1-93C8-4FE0-AC9B-98F232C07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95A265-5CBB-413A-83D3-2D8918FC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A477E-FC27-451E-A967-4081911FD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20778F-DBF3-4F21-8E03-A409D5E7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0579C-0A89-4C1A-9764-287725D8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40475C-4A9D-47F3-93FA-9C9E8EA1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430A04-1C0C-4855-8E38-85D94A545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471FC-E745-475F-A555-BB364D05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D9612-0744-465D-8A12-9F2569EAA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1646-79AC-4E98-AE00-6A3D90D16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3AE92-B164-40D5-A295-1ACB023B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567AB-804B-4EB8-9E6B-C22668A9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2EF2D-3A82-48EF-AAB3-1A88DB53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81161-72E0-4763-9E0A-396A3182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2092E-5010-426E-BFBF-DB2613388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9C122-7369-4C77-885F-5A03796B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F253D-2112-4EDB-9651-F18BBA0B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4F254D-ECF2-4078-A9D4-3CB323AE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838BD-9EA8-4EB1-943D-CC6EE23C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7B301-72DE-46B2-B763-ABD485D8D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AAA-D6FC-4D8D-ADB8-1E58D370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0099B-70C1-46DF-AB96-5499D7DD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D8875-F180-497E-9FD0-6CF2E429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5499B3-7010-4ED8-A156-3C35E8C7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AEC62-CC85-485F-9B6F-4F691F0D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785D6-B507-46EE-9863-CCFCAA346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D35803-A859-4727-980D-4E9BEF498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D1C3F-9DAE-40EA-AB40-9C79C26D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90B510-87A0-4722-81F4-A55ACAAF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6F6BE-4BA5-4FE0-8E57-7454827F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31F800-FBB7-4F0A-A1E4-429C53AE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AD98-0C6F-4540-8ACA-6928DD97C5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14A1-46DF-436D-8FA5-45C2A5A2FC6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D609-F890-458B-80E4-2D2D2D129EF7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7A7B-E43E-4701-A355-74A025EB0E4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AC5E2-8E30-4197-B037-D0F3E8C9DF0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9A43-1FD5-4793-821C-D06F8E545189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891F-EB9F-470F-A288-C140F9036EA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98E9-7F50-47E0-9DCA-00C93823E548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4CA6-79F9-4C4C-9DD0-E7494325A8F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6E528-E82D-4D74-ADB3-B1EE98730DD4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50E2-183C-4110-84C4-0115BA2BFDF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702B-9B6C-47D5-AC7D-0E344796062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AD6F-4544-44B8-879A-90CD2F6A07E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MS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0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0" name="Object 2"/>
          <p:cNvGraphicFramePr/>
          <p:nvPr/>
        </p:nvGraphicFramePr>
        <p:xfrm>
          <a:off x="900000" y="404640"/>
          <a:ext cx="6189840" cy="48405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04640"/>
                    <a:ext cx="6189840" cy="484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250920" y="5229000"/>
            <a:ext cx="864216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к предмету «Окружающий мир» 1 клас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: Золотухина О.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«СОШ №71» г. Пер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Прямоугольник 4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5"/>
          <p:cNvSpPr/>
          <p:nvPr/>
        </p:nvSpPr>
        <p:spPr>
          <a:xfrm>
            <a:off x="2124000" y="3244680"/>
            <a:ext cx="328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ные источни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1371600" y="1052280"/>
            <a:ext cx="640080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Завальнюк Л.Год-пароход М.:Омега, 2001.-43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Рисунок кораблика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ww.weblance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178920" y="4508640"/>
            <a:ext cx="8137800" cy="19447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год?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громный пар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странный пароход, необычный парох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лывёт не по воде он, он по времени плыв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2" descr=""/>
          <p:cNvPicPr/>
          <p:nvPr/>
        </p:nvPicPr>
        <p:blipFill>
          <a:blip r:embed="rId1"/>
          <a:srcRect l="0" t="12224" r="0" b="12224"/>
          <a:stretch/>
        </p:blipFill>
        <p:spPr>
          <a:xfrm>
            <a:off x="2627280" y="126828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121200" cy="115272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456840" y="1434600"/>
            <a:ext cx="3683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т лежит пред ним зим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белом инее дом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2"/>
          <a:stretch/>
        </p:blipFill>
        <p:spPr>
          <a:xfrm>
            <a:off x="4140360" y="620640"/>
            <a:ext cx="4679640" cy="5112000"/>
          </a:xfrm>
          <a:prstGeom prst="rect">
            <a:avLst/>
          </a:prstGeom>
          <a:ln w="0">
            <a:noFill/>
          </a:ln>
        </p:spPr>
      </p:pic>
      <p:pic>
        <p:nvPicPr>
          <p:cNvPr id="550" name="Рисунок 52" descr=""/>
          <p:cNvPicPr/>
          <p:nvPr/>
        </p:nvPicPr>
        <p:blipFill>
          <a:blip r:embed="rId3"/>
          <a:stretch/>
        </p:blipFill>
        <p:spPr>
          <a:xfrm>
            <a:off x="1116000" y="4076640"/>
            <a:ext cx="1655640" cy="223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Заголовок 1" descr=""/>
          <p:cNvPicPr/>
          <p:nvPr/>
        </p:nvPicPr>
        <p:blipFill>
          <a:blip r:embed="rId1"/>
          <a:stretch/>
        </p:blipFill>
        <p:spPr>
          <a:xfrm>
            <a:off x="317520" y="268200"/>
            <a:ext cx="3157560" cy="11700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лывёт он по весне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вон капели в тиши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2" descr=""/>
          <p:cNvPicPr/>
          <p:nvPr/>
        </p:nvPicPr>
        <p:blipFill>
          <a:blip r:embed="rId2"/>
          <a:stretch/>
        </p:blipFill>
        <p:spPr>
          <a:xfrm>
            <a:off x="3679920" y="765000"/>
            <a:ext cx="5068800" cy="4819680"/>
          </a:xfrm>
          <a:prstGeom prst="rect">
            <a:avLst/>
          </a:prstGeom>
          <a:ln w="0">
            <a:noFill/>
          </a:ln>
        </p:spPr>
      </p:pic>
      <p:pic>
        <p:nvPicPr>
          <p:cNvPr id="554" name="Рисунок 67" descr=""/>
          <p:cNvPicPr/>
          <p:nvPr/>
        </p:nvPicPr>
        <p:blipFill>
          <a:blip r:embed="rId3"/>
          <a:stretch/>
        </p:blipFill>
        <p:spPr>
          <a:xfrm>
            <a:off x="826920" y="3716280"/>
            <a:ext cx="2089440" cy="244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24360" cy="1170000"/>
          </a:xfrm>
          <a:prstGeom prst="rect">
            <a:avLst/>
          </a:prstGeom>
          <a:ln w="0">
            <a:noFill/>
          </a:ln>
        </p:spPr>
      </p:pic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лывёт он через лето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м вся земля согр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4968720" cy="525636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61" descr=""/>
          <p:cNvPicPr/>
          <p:nvPr/>
        </p:nvPicPr>
        <p:blipFill>
          <a:blip r:embed="rId3"/>
          <a:stretch/>
        </p:blipFill>
        <p:spPr>
          <a:xfrm>
            <a:off x="1042920" y="3860640"/>
            <a:ext cx="1728720" cy="230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3024360" cy="132876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по осе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ывёт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чки в небе, дождь идё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2"/>
          <a:stretch/>
        </p:blipFill>
        <p:spPr>
          <a:xfrm>
            <a:off x="3851280" y="692280"/>
            <a:ext cx="4968720" cy="489744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55" descr=""/>
          <p:cNvPicPr/>
          <p:nvPr/>
        </p:nvPicPr>
        <p:blipFill>
          <a:blip r:embed="rId3"/>
          <a:stretch/>
        </p:blipFill>
        <p:spPr>
          <a:xfrm>
            <a:off x="1258920" y="3716280"/>
            <a:ext cx="1944720" cy="25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чью он плывёт и днём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велит природа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морям, что мы зовё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МИ ГО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2" descr=""/>
          <p:cNvPicPr/>
          <p:nvPr/>
        </p:nvPicPr>
        <p:blipFill>
          <a:blip r:embed="rId1"/>
          <a:stretch/>
        </p:blipFill>
        <p:spPr>
          <a:xfrm>
            <a:off x="179280" y="1832040"/>
            <a:ext cx="2305080" cy="202860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3" descr=""/>
          <p:cNvPicPr/>
          <p:nvPr/>
        </p:nvPicPr>
        <p:blipFill>
          <a:blip r:embed="rId2"/>
          <a:stretch/>
        </p:blipFill>
        <p:spPr>
          <a:xfrm>
            <a:off x="1332000" y="4221000"/>
            <a:ext cx="2879640" cy="230040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4" descr=""/>
          <p:cNvPicPr/>
          <p:nvPr/>
        </p:nvPicPr>
        <p:blipFill>
          <a:blip r:embed="rId3"/>
          <a:stretch/>
        </p:blipFill>
        <p:spPr>
          <a:xfrm>
            <a:off x="3492360" y="1916280"/>
            <a:ext cx="2592360" cy="22334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"/>
          <p:cNvPicPr/>
          <p:nvPr/>
        </p:nvPicPr>
        <p:blipFill>
          <a:blip r:embed="rId4"/>
          <a:stretch/>
        </p:blipFill>
        <p:spPr>
          <a:xfrm>
            <a:off x="5940360" y="3500280"/>
            <a:ext cx="2448000" cy="206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 rot="20667600">
            <a:off x="533160" y="968040"/>
            <a:ext cx="5846760" cy="197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 в России, как и во всём мир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ён года – четыр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20000" cy="22795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к, запомн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а года –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МА, ВЕСНА, ЛЕТО, ОСЕН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1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1000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170560" cy="53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КОГДА У ТЕБЯ ДЕНЬ РОЖДЕНИ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ЗИМОЙ    ВЕСНОЙ    ЛЕТОМ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.  КОГДА ДЕНЬ РОЖДЕНИЯ У ГОДА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ЛЕТОМ       ОСЕНЬЮ     ВЕСНОЙ   ЗИМО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КОГДА ЗВЕРИ ЗАПАСАЮТ ПРОДУКТЫ НА ЗИМУ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ВЕСНОЙ                                     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.В КАКОЕ ВРЕМЯ ГОДА ЦВЕТУТ САДЫ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ЗИМОЙ    ЛЕТОМ            ВЕСНОЙ       ОСЕНЬЮ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СКОЛЬКО ТЫ ЗНАЕШЬ ВРЕМЁН ГОДА И КАК ОН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НАЗЫВАЮТС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22160" y="404640"/>
            <a:ext cx="777240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b">
            <a:normAutofit/>
          </a:bodyPr>
          <a:p>
            <a:pPr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ВЕРЬ СЕБ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3T17:01:39Z</dcterms:created>
  <dc:creator>Сергей</dc:creator>
  <dc:description/>
  <dc:language>en-US</dc:language>
  <cp:lastModifiedBy>Сергей</cp:lastModifiedBy>
  <dcterms:modified xsi:type="dcterms:W3CDTF">2013-06-04T17:34:40Z</dcterms:modified>
  <cp:revision>19</cp:revision>
  <dc:subject/>
  <dc:title>Слайд 1</dc:title>
</cp:coreProperties>
</file>